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C8AE7-66BC-45ED-B69A-D3AFBBB8D5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hanged title from “design considerations” to assum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hanged title from “design considerations” to assum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Deleted the word “submission” from second bullet:  originally read “self-serve submission feedback reports…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hanged title from “improving the data submission process” to future data subm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d title from “validating data in a VBP program” to future validat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ed bullet #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32AF-8515-4C17-A9E5-C96BC0267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0182-FEA6-4FE6-9347-AF623D1DE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11E1-6A81-4637-89F4-746E13643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D267-962D-477E-A56E-AF3CC1832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DCD9-1DBC-4AE3-888F-AE96E6E6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763C-CBC8-459B-A8E6-CBA6679AF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528E-5DBD-4F30-8D8E-30D7531BC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57CF-2765-4568-A3EA-E195234FA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8F52-B5C7-4C45-933B-DBD87C892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5961-63F8-48A1-A01C-02AE2716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FB46-6587-4395-8451-770430CD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013F-9A90-420B-88BE-52A02627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CFA24-F852-429E-B6DB-057018115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120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ata Infrastructure &amp; Valid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7720" y="30481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William M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Office of Clinical Standards and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47920" y="2057400"/>
            <a:ext cx="6705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09680" y="4876920"/>
            <a:ext cx="4648320" cy="8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Listening Ses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December 9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Summary of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What are the advantages and disadvantages of various data sources, including claims, registries, and EH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ow can CMS best build on current data processes and policies to meet PVBP requir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ow might various data sources reduce the burden of repor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ow should CMS structure data validation for PVB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ow should CMS provide feedback reports to professionals and their group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6EF0-F480-4AA0-BD7D-58CF65192E4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99"/>
                </a:solidFill>
                <a:latin typeface="Tahoma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2209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Opportunity for Public Com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E51B-F795-4755-80F6-7D15BB0AC9A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Overview of Pres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8487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esign Princi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ata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ata 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Feedback to Professio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53C2-ECC6-4F21-973B-45F98AA6E09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esign Princi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inimize the burden of data exchan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rovide for efficient data validation and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Give timely feedback for performance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nsider use of all paye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CF62-26C7-43CA-B363-FB957BAD2C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esign Consid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ata quality and the data infrastructure are essential building blocks for any successful VBP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ata used to score performance must be val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ata strategy and infrastructure depend on the types of data used for calculating the performance metric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392E-59E4-4DFB-9226-D99BA1984B7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600"/>
            </a:b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ata Sou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391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xisting Clai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odified Clai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upplemental Clinic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- 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EH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-  Regis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urv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-  Pat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-  Off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730F-83A1-47B2-99D9-6340156E31E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ata Sou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urrent initi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BQ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hysician Group Practice Demon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MCM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Q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Hospital V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89C2-DFAC-4A30-A754-A6EA78BE9D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Challen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ssociation of individual professionals to group practices or system level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ttribution of a patient to a profess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asure complex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ll paye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Reporting bu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Time 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19F4-9F8A-4560-BA86-4CD647F62D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ata Valid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27120" y="1600200"/>
            <a:ext cx="8059680" cy="38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ata validation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nnual universal au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Quarter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nnual audit targeted at all out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nnual audit of a random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tte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Validation Appe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hoice depends on data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BAC1-4CA8-49CE-A6EC-29DB15535B5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Feedback to Profession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asurement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Validation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lig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8B89-595B-44ED-8AEE-B2A3BEA18D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9T15:08:35Z</dcterms:created>
  <dc:creator>CMS</dc:creator>
  <dc:description/>
  <dc:language>en-US</dc:language>
  <cp:lastModifiedBy>CMS</cp:lastModifiedBy>
  <dcterms:modified xsi:type="dcterms:W3CDTF">2008-12-08T15:40:48Z</dcterms:modified>
  <cp:revision>1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51621045</vt:r8>
  </property>
  <property fmtid="{D5CDD505-2E9C-101B-9397-08002B2CF9AE}" pid="3" name="_AuthorEmail">
    <vt:lpwstr>Julianne.Howell@cms.hhs.gov</vt:lpwstr>
  </property>
  <property fmtid="{D5CDD505-2E9C-101B-9397-08002B2CF9AE}" pid="4" name="_AuthorEmailDisplayName">
    <vt:lpwstr>Howell, Julianne R. (CMS/CTR)</vt:lpwstr>
  </property>
  <property fmtid="{D5CDD505-2E9C-101B-9397-08002B2CF9AE}" pid="5" name="_EmailSubject">
    <vt:lpwstr>PVBP Slides renamed</vt:lpwstr>
  </property>
  <property fmtid="{D5CDD505-2E9C-101B-9397-08002B2CF9AE}" pid="6" name="_NewReviewCycle">
    <vt:lpwstr/>
  </property>
  <property fmtid="{D5CDD505-2E9C-101B-9397-08002B2CF9AE}" pid="7" name="_PreviousAdHocReviewCycleID">
    <vt:r8>-858718010</vt:r8>
  </property>
</Properties>
</file>